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98C-6B25-484B-925B-5F4BFCBA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A21-ADD0-48A3-B343-AD6908B6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C14-7B6E-4260-97E3-4C758CDF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E1D-C2E1-4E4F-87C0-C8D9ADD8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E08F-A7DA-4976-8885-C9B456D7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2C6B-9F43-4CC2-999B-C75BD273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E140-8E31-4E0B-A823-F0A2296E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140B-539D-432B-80CE-11D92935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9186-E2DF-48C1-892A-30ABA4D0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1C57-CA4C-454C-B2D0-22F6815D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6636-FDA7-4ECB-8239-6D9063BD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103-88E3-4C67-8876-65B015D0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5E8A-270D-4477-AE52-F87661FE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E1E0-CE9B-4EE9-AE80-0802FECF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1251-F4C8-4FEC-86BF-02ACEE1A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AC81-1599-47BC-8AE2-69570AB6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5EA8-D636-4499-866F-D1EA50B9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42F-20D8-4056-B4A6-1AE1C576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37D-3987-471D-80EE-9C72F6C3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1B5-868A-44B2-9598-BFC29FAB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D51-50C7-4760-A0C1-AA981EEB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706-E4B3-480F-BD25-54CC6E80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C4C-2A38-4635-85B3-CA2F39DD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46C-60A9-4C4A-A83A-E1F660D9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DB27-4C64-41E5-9FA9-D2372BF51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0371-096F-456A-9AA9-00C5F0D8F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DS System Overvie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 15,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igh Lev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143000"/>
            <a:ext cx="24382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h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971800"/>
            <a:ext cx="5181480" cy="3200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DS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343400"/>
            <a:ext cx="24382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5:34:30Z</dcterms:created>
  <dc:creator>CACI</dc:creator>
  <dc:description/>
  <dc:language>en-US</dc:language>
  <cp:lastModifiedBy>CACI</cp:lastModifiedBy>
  <dcterms:modified xsi:type="dcterms:W3CDTF">2006-11-15T20:26:00Z</dcterms:modified>
  <cp:revision>2</cp:revision>
  <dc:subject/>
  <dc:title>CDS System Overview</dc:title>
</cp:coreProperties>
</file>